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15663-A4F4-44AD-ADFF-3D4E7A85EE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5D826-7AFF-42BC-B4BC-9A1003183D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03BEC-6407-4C9C-AF40-1CCAE99FDF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F34F1-0443-4080-9CAD-FECDABB6C5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944B5-E251-49F7-906D-95073CA1718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D8272-ABCA-4983-A65A-97720BC4277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19CFC-2CBD-48F6-BD9F-CBDEEE718D5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0AF1E-A2C6-4C2B-BF19-F2F394FEE0C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D079B-BB7E-4DC4-96AE-2A070189462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5EAF0-C33C-4E19-A63B-FD281E3784F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1532C-DAAC-486E-92D8-F5C45E1BB4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53A0C-1A8D-4F65-8EE9-83D47847BE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62C23-7106-420A-A356-0029972676C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685AF-FBBF-4682-AAB8-C3E7960EE8D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167AF-5B7C-4B3C-A9CF-8FDAAD1883F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75B73-5F35-473A-807F-843A7CFB944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59CCD-F8BD-40FA-BFAD-5018DF7362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1EE6F-DE75-4A5D-812D-654B46174C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D6E03-85EE-4535-BDAD-946FCFF793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2A180-7D1E-4D76-9BAF-CA3FAE7123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A7B35-CC7C-4DBC-BF77-26FA5092D8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044B2-901E-44E7-8BE9-1D3187E6D3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DE7AF-D0F5-477F-A05F-83D4391568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127B2-37AA-495E-AA00-E811AA8099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FB7C6-1CB5-4031-9A3C-D2033539B0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1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E8F64-DB4E-4F7A-9232-875FE6DACB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" action="ppaction://hlinkshowjump?jump=previousslide"/>
          </p:cNvPr>
          <p:cNvSpPr/>
          <p:nvPr/>
        </p:nvSpPr>
        <p:spPr>
          <a:xfrm rot="5400000">
            <a:off x="6781320" y="7596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 rot="16200000">
            <a:off x="6781680" y="45684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62940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40080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1992–2004 by Deitel &amp; Associates, Inc. and Pearson Education Inc. All Rights Reserved</a:t>
            </a:r>
            <a:r>
              <a:rPr b="0" lang="en-US" sz="1200" spc="-1" strike="noStrike">
                <a:solidFill>
                  <a:srgbClr val="000000"/>
                </a:solidFill>
                <a:latin typeface="AvantGarde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kcija 5 – Prostori imena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1243080"/>
            <a:ext cx="7696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Preg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1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Motivac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Organizacija programa po fajlov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3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Način povezivanja ime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4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Prostori ime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5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Anonimni prostor ime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6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Standardni prostor ime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A5A11-5C29-47B0-B6A9-D2804DFE2FC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4 Prostori imen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 različitim fajlovima ili bibliotekama mogu da se nađu globalne varijable, funkcije, ili klase sa istim imenim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oblem konfilikta ime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Rješenje: Upotreba prostora ime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ostor imena je imenovana sekcija fajl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Ograničen je vitičastim zagrada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očinje s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space Identifikat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Identifikator predstavlja naziv prostora ime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Više definicija sa istim identifikatorom obrazuje jedan prostor sa datim imen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Unij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879B4-107D-414E-B46D-D9C1FC35F61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4 Prostori imen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Globalna imena uvedena u prostoru imena mogu se neposredno koristiti unutar tog prostora ime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Nijesu vidljiva izvan tog prostora imen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Mora se koristi posebna notacija za referenciranj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ostoje tri načina za referencir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Referenciranje pojedinačnog član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ourier New"/>
              </a:rPr>
              <a:t>Identifikator_prostora_imena::Ime_iz_prostora_ime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Uvoz pojedičnog element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ourier New"/>
              </a:rPr>
              <a:t>using </a:t>
            </a:r>
            <a:r>
              <a:rPr b="0" i="1" lang="sl-SI" sz="1600" spc="-1" strike="noStrike">
                <a:solidFill>
                  <a:srgbClr val="000000"/>
                </a:solidFill>
                <a:latin typeface="Courier New"/>
              </a:rPr>
              <a:t>Identifikator_prostora_imena</a:t>
            </a:r>
            <a:r>
              <a:rPr b="0" lang="sl-SI" sz="16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0" i="1" lang="sl-SI" sz="1600" spc="-1" strike="noStrike">
                <a:solidFill>
                  <a:srgbClr val="000000"/>
                </a:solidFill>
                <a:latin typeface="Courier New"/>
              </a:rPr>
              <a:t>Ime_iz_prostora_ime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Uvoz svih imena iz prostora imen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ourier New"/>
              </a:rPr>
              <a:t>using namespace </a:t>
            </a:r>
            <a:r>
              <a:rPr b="0" i="1" lang="sl-SI" sz="1600" spc="-1" strike="noStrike">
                <a:solidFill>
                  <a:srgbClr val="000000"/>
                </a:solidFill>
                <a:latin typeface="Courier New"/>
              </a:rPr>
              <a:t>Identifikator_prostora_imena</a:t>
            </a:r>
            <a:r>
              <a:rPr b="0" i="1" lang="sl-SI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018C0-76CD-44C3-9BC6-1B05D40B977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4 Prostori imen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6624720" cy="5558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2AFE2-3982-4D2A-AE79-2739DDE40E2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4 Prostori imen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vezena imena mogu da se koriste bez navođenja identifikatora prostora imena i operatora :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ime nije jednoznačno onda se mora navesti identifikator prostora im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U dva različita prostora imena postoje dvije funkcije sa istim imeno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postoji lokalno ime onda se mora navesti identifikator prostora im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voz se odnosi samo na delove prostora imena definisane pr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u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6D054-F726-4C1F-92D3-D739CC326C2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4 Prostori imen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258920" y="1382760"/>
            <a:ext cx="6696000" cy="5475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1D3CD-FF7D-4BD3-9FAE-61635F828DE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5 Anonimni prostor imen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še se izostavljanjem identifikatora iz definicije prostora im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mena iz anonimnog prostora imena vidjive su u datotec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Nije vidljivo u drugim fajlovim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mena iz anonimnog prostora mogu se koristiti bez navođenja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: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to ime iz anonimnog prostora u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vij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oteke označava različite entit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nimni prostor imena se preporučuj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esto stavljanj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za globalna im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2A050-A7D8-48D5-82A6-D906A0C5257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5 Anonimni prostor imen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pace A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globalVar = 1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printGlobalA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t &lt;&lt; "printGlobalA 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&lt; ++globalVar &lt;&lt; end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ff3300"/>
                </a:solidFill>
                <a:latin typeface="Courier New"/>
              </a:rPr>
              <a:t>printGlobalA(); //gres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::printGlobalA(); //dozvolje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17E6D-1F71-43E6-8F7A-2EE5332C10E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5 Anonimni prostor imen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amespace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globalVar = 1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oid printGlobalA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ut &lt;&lt; "printGlobalA 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&lt; ++globalVar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GlobalA(); //dozvolj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23173-8E47-4149-B3A6-0984BDEEB6B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5 Anonimni prostor imen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00000" y="1325520"/>
            <a:ext cx="7777440" cy="5532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35EDD-8E90-4220-9300-0B995AF9E35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6 Standardni prostor imen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ndardna zaglavlja sm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štaju imena u prostor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imena pod naziv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Npr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iostream&gt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še sva imena u prostoru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 razliku 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iostream.h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d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su imena global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include &lt;iostream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include &lt;iostream.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main(){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main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nt 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d::cout&lt;&lt;”n?”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cout&lt;&lt;”n?”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d::cin&gt;&gt;n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cin&gt;&gt;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sing namespace std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t&lt;&lt;”n?”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in&gt;&gt;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24CD4-418B-434E-AC7C-57E9852D696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38080" y="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Motiv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914400"/>
            <a:ext cx="77724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 ovoj lekcij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oznavanje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 organizacijom progr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novni pojmovi vezani za način povezivanja ime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oznavanje sa prostorima ime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onimni i standardni prostori ime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CEC78-87D0-41CF-885A-002CCCC255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Motivacija 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epraktično i nepregledno je da se kompletan programski kod nalazi u jednom fajl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Veći programi  bivaju “razbijeni” na više manjih organizacionih jedin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Koristi se i termin programski modu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Obično se jedan modul sadrži u jednom fajl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Tradicionalno, proizvođači softvera su grupu srodnih funkcija organizovali kao jedan modu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Koristi se termin biblioteke, ili biblioteke gotovog kod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Standardne bibliotek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4CF3E-293B-4C6F-9B91-2C770505CE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2 Organizacija programa po fajlovim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Programeru ne piše programski kod “od nule” već u svom kodu koristi bibliotek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Standard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Kreirane od strane drugih proizvođača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Kreirane od strane drugih članova tim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U programskom jezik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biblioteke sadrže funkc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Svaki modul (biblioteka) se potpuno nezavisno prevodi od drugih mod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Deklaracije iz drugih modula učitavaju se putem </a:t>
            </a: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include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direk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Kao rezultat dobija se tzv. objektni faj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Zadatak linkera je da nezavisne cjeline poveže u izvršnu verziju programa ili novu bibliote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Sličnu ogranizaciju koristi jezik C+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Umjesto biblioteka funkcija postoje biblioteke kl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0147E-DB54-417F-9754-5A8A2D5B28B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2 Organizacija programa po fajlovim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692360" y="1476360"/>
            <a:ext cx="5976720" cy="5381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C3CFF-924C-4271-BD28-4D2437A6EC5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3 Način povezivanja imen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čin povezivanja imen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određuje kako se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ovezuju ista imena (identifikatori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korišćeni u različitim datotek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Spoljašnje povezivanje (SP) imaju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Imena koja označavaju isti entitet (podatak ili funkciju) </a:t>
            </a:r>
            <a:br>
              <a:rPr sz="2200"/>
            </a:b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unutar svih datoteka programskog siste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Unutrašenje povezivanje (UP) imaj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Imena koja označavaju različite entitete u različitim datotekama, imena koja su lokalna za datotek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Globalna imena imaju SP, osim ako se koristi </a:t>
            </a:r>
            <a:r>
              <a:rPr b="0" lang="sl-SI" sz="28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(tada je unutrašnj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Lokalna imena imaju UP, osim ako se koristi </a:t>
            </a:r>
            <a:r>
              <a:rPr b="0" lang="sl-SI" sz="2800" spc="-1" strike="noStrike">
                <a:solidFill>
                  <a:srgbClr val="000000"/>
                </a:solidFill>
                <a:latin typeface="Courier New"/>
              </a:rPr>
              <a:t>extern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(tada je spoljašnj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B996A-8A98-48B0-9D9D-FDE6BDA267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3 Način povezivanja imen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748720" cy="478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B8B8C-87AF-4792-B60D-77D3D456C4C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3 Način povezivanja imen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208720" cy="571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46846-5AC7-4515-975A-7482EC7C52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3 Način povezivanja imen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7128000" cy="544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1F19B-5978-4EF0-80BD-27281F0FB0F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2T17:02:59Z</dcterms:created>
  <dc:creator>jason</dc:creator>
  <dc:description/>
  <dc:language>en-US</dc:language>
  <cp:lastModifiedBy>Aleksandar</cp:lastModifiedBy>
  <dcterms:modified xsi:type="dcterms:W3CDTF">2013-08-20T13:57:06Z</dcterms:modified>
  <cp:revision>945</cp:revision>
  <dc:subject/>
  <dc:title>Chapter 1 – Introduction to Computers and C++ Programming</dc:title>
</cp:coreProperties>
</file>